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DA0-E21C-45B1-99F3-BAFE5385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45E-9769-497F-AAAB-640E637F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651-5939-4CF4-8F0D-1458807F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7E9-92C0-4090-B794-9BB98E230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15DF-97AC-4ABC-B7F7-9E532B7C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EC5D-3D24-4ABD-9DF0-D3F824D2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0C0A-7510-4413-A8E9-5D38C1D6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2A4A-CA82-4650-8FC4-D285A421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D4EB-2D38-4933-82BD-388BCC29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3FC1-4908-4619-8F59-D8AD2A1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6E7D-BAAD-43FA-BB20-65783C8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E1F-FE94-48D1-A2CC-801D63FF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4C58-F3B0-40CE-B570-F12A1809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4161-0748-468A-992A-8FA6C7E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3B71-19A1-4CCD-9281-1839EB46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CF65-216A-4B2F-8FCF-6B6A19E4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124E-B1ED-451F-900D-D65C500A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0F3-0E55-4F08-B09D-BC2ED4D9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FA01-DE8E-43DD-B7E0-C38BB71E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F6D-1212-4477-B3D3-1BD90958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998B-B4D7-49FD-BFD1-20BDE310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B9B-595D-401E-807A-184E5EA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13A-E778-4420-90C6-32DD5B3E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318-9983-4F85-A27D-3236C8E9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ef1c0">
                  <a:alpha val="13333"/>
                </a:srgbClr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DA5-DD7E-4668-9B63-80BCC090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0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3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1c1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6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7C9D-E869-4C46-BDF8-2C34EBDBE778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ata Directo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0224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a Access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genome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age scraping and bulk file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nternet search &amp; retrieval of all genome objects distributed among many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Simple, flexible client program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Efficient for high volume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289160"/>
            <a:ext cx="85345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xisting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inding distribut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fficient for mill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jects, by the gigabyte and tera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d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cross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llabora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ing and new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bioinformatics data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ational dbs, object and XML dbs, SRS, Entrez, Ace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imple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putable use of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common 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escrib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Replicate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bjects among bioinformatics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Peer-to-peer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llabora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uthentication 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 and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in progress for 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304920" y="115236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iubio.bio.indiana.edu/biogrid/directori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28:33Z</dcterms:created>
  <dc:creator>don gilbert</dc:creator>
  <dc:description/>
  <dc:language>en-US</dc:language>
  <cp:lastModifiedBy>don gilbert</cp:lastModifiedBy>
  <dcterms:modified xsi:type="dcterms:W3CDTF">2003-05-04T18:56:14Z</dcterms:modified>
  <cp:revision>6</cp:revision>
  <dc:subject/>
  <dc:title>Genome Data Directories</dc:title>
</cp:coreProperties>
</file>